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93E-D6AF-4ABB-8517-72043F82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BD4-F79E-4E03-B73D-3843F5AB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D55-640C-4091-96BD-DB1FEF12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13F-B98C-4AD4-ABB0-3F55C478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75A-909F-4A08-85C6-58E91591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903-C22E-47CB-9E74-437F3329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FD9-168D-4273-AF2E-0916091C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0E0-C33D-449D-AB17-F6757C80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BB8-4694-4221-A4E8-B6AC4796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DDA-5E41-4807-8735-4CA91C06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AB9-DCA5-42BD-B888-738D79C1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01B-CA6D-4FD0-85B8-16E40B90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F794-31EF-4940-BEFC-288BA0EDE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ct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4.xml"/><Relationship Id="rId3" Type="http://schemas.openxmlformats.org/officeDocument/2006/relationships/slide" Target="slide29.xml"/><Relationship Id="rId4" Type="http://schemas.openxmlformats.org/officeDocument/2006/relationships/slide" Target="slide5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20.xml"/><Relationship Id="rId8" Type="http://schemas.openxmlformats.org/officeDocument/2006/relationships/slide" Target="slide6.xml"/><Relationship Id="rId9" Type="http://schemas.openxmlformats.org/officeDocument/2006/relationships/slide" Target="slide11.xml"/><Relationship Id="rId10" Type="http://schemas.openxmlformats.org/officeDocument/2006/relationships/slide" Target="slide16.xml"/><Relationship Id="rId11" Type="http://schemas.openxmlformats.org/officeDocument/2006/relationships/slide" Target="slide21.xml"/><Relationship Id="rId12" Type="http://schemas.openxmlformats.org/officeDocument/2006/relationships/slide" Target="slide7.xml"/><Relationship Id="rId13" Type="http://schemas.openxmlformats.org/officeDocument/2006/relationships/slide" Target="slide12.xml"/><Relationship Id="rId14" Type="http://schemas.openxmlformats.org/officeDocument/2006/relationships/slide" Target="slide17.xml"/><Relationship Id="rId15" Type="http://schemas.openxmlformats.org/officeDocument/2006/relationships/slide" Target="slide22.xml"/><Relationship Id="rId16" Type="http://schemas.openxmlformats.org/officeDocument/2006/relationships/slide" Target="slide8.xml"/><Relationship Id="rId17" Type="http://schemas.openxmlformats.org/officeDocument/2006/relationships/slide" Target="slide13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066680"/>
            <a:ext cx="7772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This Is</a:t>
            </a:r>
            <a:endParaRPr b="0" lang="en-US" sz="24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Jeopardy</a:t>
            </a:r>
            <a:endParaRPr b="0" lang="en-US" sz="24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>
    <p:newsflash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95760" y="2927520"/>
                <a:ext cx="17524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1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1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1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733920" y="2906640"/>
                <a:ext cx="160020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699000" y="2801880"/>
                <a:ext cx="17478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6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6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0"/>
          <a:ext cx="657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657600" y="2946240"/>
                <a:ext cx="19051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1690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probability of picking a black soc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cimal 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010040" y="2743200"/>
                <a:ext cx="11239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200  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096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403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950200"/>
            <a:ext cx="373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probability of picking a black or brown s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ercent 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809880" y="2954160"/>
                <a:ext cx="13716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923760" y="56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7280" y="5605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380880" y="5715000"/>
            <a:ext cx="685800" cy="7383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38360"/>
              <a:gd name="textAreaBottom" fmla="*/ 694080 h 738360"/>
            </a:gdLst>
            <a:ahLst/>
            <a:rect l="textAreaLeft" t="textAreaTop" r="textAreaRight" b="textAreaBottom"/>
            <a:pathLst>
              <a:path w="21600" h="23255">
                <a:moveTo>
                  <a:pt x="0" y="0"/>
                </a:moveTo>
                <a:lnTo>
                  <a:pt x="21600" y="0"/>
                </a:lnTo>
                <a:lnTo>
                  <a:pt x="21600" y="23255"/>
                </a:lnTo>
                <a:lnTo>
                  <a:pt x="0" y="23255"/>
                </a:lnTo>
                <a:close/>
              </a:path>
              <a:path fill="lightenLess" w="21600" h="232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5">
                <a:moveTo>
                  <a:pt x="21600" y="0"/>
                </a:moveTo>
                <a:lnTo>
                  <a:pt x="21600" y="23255"/>
                </a:lnTo>
                <a:lnTo>
                  <a:pt x="20200" y="21855"/>
                </a:lnTo>
                <a:lnTo>
                  <a:pt x="20200" y="1400"/>
                </a:lnTo>
                <a:close/>
              </a:path>
              <a:path fill="darkenLess" w="21600" h="23255">
                <a:moveTo>
                  <a:pt x="21600" y="23255"/>
                </a:moveTo>
                <a:lnTo>
                  <a:pt x="0" y="23255"/>
                </a:lnTo>
                <a:lnTo>
                  <a:pt x="1400" y="21855"/>
                </a:lnTo>
                <a:lnTo>
                  <a:pt x="20200" y="21855"/>
                </a:lnTo>
                <a:close/>
              </a:path>
              <a:path fill="lighten" w="21600" h="23255">
                <a:moveTo>
                  <a:pt x="0" y="232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5"/>
                </a:lnTo>
                <a:close/>
              </a:path>
              <a:path fill="darken" w="21600" h="23255">
                <a:moveTo>
                  <a:pt x="10800" y="4664"/>
                </a:moveTo>
                <a:lnTo>
                  <a:pt x="13376" y="7275"/>
                </a:lnTo>
                <a:lnTo>
                  <a:pt x="13376" y="5535"/>
                </a:lnTo>
                <a:lnTo>
                  <a:pt x="15152" y="5535"/>
                </a:lnTo>
                <a:lnTo>
                  <a:pt x="15152" y="9051"/>
                </a:lnTo>
                <a:lnTo>
                  <a:pt x="17763" y="11627"/>
                </a:lnTo>
                <a:lnTo>
                  <a:pt x="16109" y="11627"/>
                </a:lnTo>
                <a:lnTo>
                  <a:pt x="16109" y="18817"/>
                </a:lnTo>
                <a:lnTo>
                  <a:pt x="5491" y="18817"/>
                </a:lnTo>
                <a:lnTo>
                  <a:pt x="5491" y="11627"/>
                </a:lnTo>
                <a:lnTo>
                  <a:pt x="3837" y="11627"/>
                </a:lnTo>
                <a:close/>
              </a:path>
              <a:path fill="darkenLess" w="21600" h="23255">
                <a:moveTo>
                  <a:pt x="13376" y="7275"/>
                </a:moveTo>
                <a:lnTo>
                  <a:pt x="13376" y="5535"/>
                </a:lnTo>
                <a:lnTo>
                  <a:pt x="15152" y="5535"/>
                </a:lnTo>
                <a:lnTo>
                  <a:pt x="15152" y="9051"/>
                </a:lnTo>
                <a:close/>
              </a:path>
              <a:path fill="darkenLess" w="21600" h="23255">
                <a:moveTo>
                  <a:pt x="9877" y="15126"/>
                </a:moveTo>
                <a:lnTo>
                  <a:pt x="11723" y="15126"/>
                </a:lnTo>
                <a:lnTo>
                  <a:pt x="11723" y="18817"/>
                </a:lnTo>
                <a:lnTo>
                  <a:pt x="16109" y="18817"/>
                </a:lnTo>
                <a:lnTo>
                  <a:pt x="16109" y="11627"/>
                </a:lnTo>
                <a:lnTo>
                  <a:pt x="5491" y="11627"/>
                </a:lnTo>
                <a:lnTo>
                  <a:pt x="5491" y="18817"/>
                </a:lnTo>
                <a:lnTo>
                  <a:pt x="9877" y="1881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300 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57600" y="3046320"/>
                <a:ext cx="20574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400 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26528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99716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highest temperature?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lowest temperature?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505320" y="2779560"/>
                <a:ext cx="1752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ultiply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22680" y="279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352680" y="2851200"/>
                <a:ext cx="23623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41720" y="2438280"/>
                <a:ext cx="625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685800"/>
            <a:ext cx="65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1ff"/>
                </a:solidFill>
                <a:latin typeface="Arial Black"/>
              </a:rPr>
              <a:t>Unit 3: 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38037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041720" y="2438280"/>
                <a:ext cx="6256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56200" y="2743200"/>
                <a:ext cx="6998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049640" y="2514600"/>
                <a:ext cx="623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plifying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6668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19680" y="2666880"/>
                <a:ext cx="11095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3 an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1160" y="2057040"/>
            <a:ext cx="7200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898800" y="3200400"/>
                <a:ext cx="1346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nd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             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52560" y="22860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4160" y="4572000"/>
            <a:ext cx="35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695760" y="3124080"/>
                <a:ext cx="17524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nd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5105520"/>
            <a:ext cx="1974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76720"/>
            <a:ext cx="419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9680" y="322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657600" y="2833560"/>
                <a:ext cx="182880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Finding LC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aka least common multi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807696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581280" y="3048120"/>
                <a:ext cx="1981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+5x3-6÷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676440" cy="31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676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19320" y="228600"/>
            <a:ext cx="6705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th Jeopardy</a:t>
            </a:r>
            <a:endParaRPr b="0" lang="en-US" sz="2400" spc="1" strike="noStrike">
              <a:ln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09480" y="1295280"/>
          <a:ext cx="7925040" cy="5349960"/>
        </p:xfrm>
        <a:graphic>
          <a:graphicData uri="http://schemas.openxmlformats.org/drawingml/2006/table">
            <a:tbl>
              <a:tblPr/>
              <a:tblGrid>
                <a:gridCol w="1238400"/>
                <a:gridCol w="1403280"/>
                <a:gridCol w="1320840"/>
                <a:gridCol w="1403280"/>
                <a:gridCol w="1238400"/>
                <a:gridCol w="1320840"/>
              </a:tblGrid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dding Fractions &amp; Mixed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ubtracting Fractions &amp; Mixed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ultiplying Fractions &amp; Mixed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implify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nding L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or least common multip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" action="ppaction://hlinksldjump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2" action="ppaction://hlinksldjump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3" action="ppaction://hlinksldjump"/>
                        </a:rPr>
                        <a:t>$</a:t>
                      </a:r>
                      <a:r>
                        <a:rPr b="0" lang="en-US" sz="1800" spc="-1" strike="noStrike" u="sng">
                          <a:solidFill>
                            <a:srgbClr val="aee5f0"/>
                          </a:solidFill>
                          <a:uFillTx/>
                          <a:latin typeface="Arial Blac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4" action="ppaction://hlinksldjump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5" action="ppaction://hlinksldjump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6" action="ppaction://hlinksldjump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7" action="ppaction://hlinksldjump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8" action="ppaction://hlinksldjump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9" action="ppaction://hlinksldjump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0" action="ppaction://hlinksldjump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1" action="ppaction://hlinksldjump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2" action="ppaction://hlinksldjump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3" action="ppaction://hlinksldjump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4" action="ppaction://hlinksldjump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5" action="ppaction://hlinksldjump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6" action="ppaction://hlinksldjump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7" action="ppaction://hlinksldjump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8" action="ppaction://hlinksldjump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ee5f0"/>
                          </a:solidFill>
                          <a:latin typeface="Arial Black"/>
                        </a:rPr>
                        <a:t>$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in standard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(3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(9x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0"/>
          <a:ext cx="600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38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in exponential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8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,0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5715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 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he functio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43280" y="1981080"/>
          <a:ext cx="3129120" cy="4496040"/>
        </p:xfrm>
        <a:graphic>
          <a:graphicData uri="http://schemas.openxmlformats.org/drawingml/2006/table">
            <a:tbl>
              <a:tblPr/>
              <a:tblGrid>
                <a:gridCol w="1565280"/>
                <a:gridCol w="156384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le:       5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457200" y="5867280"/>
            <a:ext cx="533520" cy="433440"/>
          </a:xfrm>
          <a:custGeom>
            <a:avLst/>
            <a:gdLst>
              <a:gd name="textAreaLeft" fmla="*/ 28080 w 533520"/>
              <a:gd name="textAreaRight" fmla="*/ 505440 w 533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83" h="21600">
                <a:moveTo>
                  <a:pt x="0" y="0"/>
                </a:moveTo>
                <a:lnTo>
                  <a:pt x="26583" y="0"/>
                </a:lnTo>
                <a:lnTo>
                  <a:pt x="26583" y="21600"/>
                </a:lnTo>
                <a:lnTo>
                  <a:pt x="0" y="21600"/>
                </a:lnTo>
                <a:close/>
              </a:path>
              <a:path fill="lightenLess" w="26583" h="21600">
                <a:moveTo>
                  <a:pt x="0" y="0"/>
                </a:moveTo>
                <a:lnTo>
                  <a:pt x="26583" y="0"/>
                </a:lnTo>
                <a:lnTo>
                  <a:pt x="25183" y="1400"/>
                </a:lnTo>
                <a:lnTo>
                  <a:pt x="1400" y="1400"/>
                </a:lnTo>
                <a:close/>
              </a:path>
              <a:path fill="darken" w="26583" h="21600">
                <a:moveTo>
                  <a:pt x="26583" y="0"/>
                </a:moveTo>
                <a:lnTo>
                  <a:pt x="26583" y="21600"/>
                </a:lnTo>
                <a:lnTo>
                  <a:pt x="25183" y="20200"/>
                </a:lnTo>
                <a:lnTo>
                  <a:pt x="25183" y="1400"/>
                </a:lnTo>
                <a:close/>
              </a:path>
              <a:path fill="darkenLess" w="26583" h="21600">
                <a:moveTo>
                  <a:pt x="26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3" y="20200"/>
                </a:lnTo>
                <a:close/>
              </a:path>
              <a:path fill="lighten" w="26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3" h="21600">
                <a:moveTo>
                  <a:pt x="13292" y="3837"/>
                </a:moveTo>
                <a:lnTo>
                  <a:pt x="15868" y="6448"/>
                </a:lnTo>
                <a:lnTo>
                  <a:pt x="15868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5" y="10800"/>
                </a:lnTo>
                <a:lnTo>
                  <a:pt x="18601" y="10800"/>
                </a:lnTo>
                <a:lnTo>
                  <a:pt x="18601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9" y="10800"/>
                </a:lnTo>
                <a:close/>
              </a:path>
              <a:path fill="darkenLess" w="26583" h="21600">
                <a:moveTo>
                  <a:pt x="15868" y="6448"/>
                </a:moveTo>
                <a:lnTo>
                  <a:pt x="15868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3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1" y="17989"/>
                </a:lnTo>
                <a:lnTo>
                  <a:pt x="18601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when x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- x ÷ 6 +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581280" y="3162240"/>
                <a:ext cx="1609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352680" y="2911320"/>
                <a:ext cx="22100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3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62440" y="3251160"/>
                <a:ext cx="1700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4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81280" y="2879640"/>
                <a:ext cx="14479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5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ng Fractions &amp; Mixed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expression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086600" y="2438280"/>
                <a:ext cx="762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733920" y="3441600"/>
                <a:ext cx="14065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10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ing Fractions &amp; Mixe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6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6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57600" y="2946240"/>
                <a:ext cx="1600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4:38:00Z</dcterms:created>
  <dc:creator>Brian McGrath</dc:creator>
  <dc:description/>
  <dc:language>en-US</dc:language>
  <cp:lastModifiedBy>Brian McGrath</cp:lastModifiedBy>
  <dcterms:modified xsi:type="dcterms:W3CDTF">2010-11-13T16:33:38Z</dcterms:modified>
  <cp:revision>2</cp:revision>
  <dc:subject/>
  <dc:title>PowerPoint Presentation</dc:title>
</cp:coreProperties>
</file>